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A66-30CF-49E3-A7BD-E836984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987-A694-44DF-9C10-47A68A10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7BE-ACFF-4EC3-BA82-70FBDA72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855-58F5-4A3B-B964-F930B04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E40-ADBE-4560-9CF2-644EA3E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094-3A73-4E8D-B0FB-0AF45957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B25-D120-4910-ADF2-B5A498E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F14-66C4-4A37-866D-CACBF2EF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3E6-3A50-4AF9-A69E-E00A112C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8CA-12B2-4D8A-A1A9-E0C9D4F3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49F-AB18-4D95-BE7C-A606ED6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D71-FEED-4036-B1C9-7F10945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F1F-CC83-4CA7-B4D3-FF4999204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на ергогених средстава код спортис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фичности употребе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гљених хидрата ка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ргогених средстав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ски инд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8920" y="764640"/>
            <a:ext cx="871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од најзначајнијих појмова везаних за метаболизам угљених хидрата јесте гликемијски индек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икемијски индекс је број који показује како угљени хидрати из хране утичу на ниво глукозе (шећера) у кр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дефиницији, глукоза има гликемијски индекс 100, следствено томе, остала храна има нижи индек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Ð ÐµÐ·ÑÐ»ÑÐ°Ñ ÑÐ»Ð¸ÐºÐ° Ð·Ð° glycemic index"/>
          <p:cNvPicPr/>
          <p:nvPr/>
        </p:nvPicPr>
        <p:blipFill>
          <a:blip r:embed="rId1"/>
          <a:stretch/>
        </p:blipFill>
        <p:spPr>
          <a:xfrm>
            <a:off x="1908000" y="2637000"/>
            <a:ext cx="59724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ски инд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267920"/>
            <a:ext cx="871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оријски гледано, низак гликемијски индекс обезбеђује лагано отпуштање глукозе у крв, док намирнице с високим гликемијским индексом то раде брж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штина је у томе да пре тренинга треба узимати намирнице ниског гликемијског индекса, док у првом сату након физичке активности треба надокнадити енергију узимањем намирница средњег и високог гликемијског индекса и наставити њихово уношење током следећег сата, чиме се обнављају залихе гликог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Ð ÐµÐ·ÑÐ»ÑÐ°Ñ ÑÐ»Ð¸ÐºÐ° Ð·Ð° glycemic index"/>
          <p:cNvPicPr/>
          <p:nvPr/>
        </p:nvPicPr>
        <p:blipFill>
          <a:blip r:embed="rId1"/>
          <a:stretch/>
        </p:blipFill>
        <p:spPr>
          <a:xfrm>
            <a:off x="2982960" y="3860640"/>
            <a:ext cx="3078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чај угљених хидрата у спортској исх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љени хидрати представљају основу исхране спортиста, јер директно учествују у депоновању гликогена, који се користи као извор енергије током такмичења и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Ð ÐµÐ·ÑÐ»ÑÐ°Ñ ÑÐ»Ð¸ÐºÐ° Ð·Ð° ugljeni hidrati kod sportista"/>
          <p:cNvPicPr/>
          <p:nvPr/>
        </p:nvPicPr>
        <p:blipFill>
          <a:blip r:embed="rId1"/>
          <a:stretch/>
        </p:blipFill>
        <p:spPr>
          <a:xfrm>
            <a:off x="2843280" y="2997360"/>
            <a:ext cx="34146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дела угљених хидра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915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љени хидрати, према хемијској структури, деле се на три велике груп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сахариде (глукоз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лактоза, фруктоза, сорбитол, манитол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сахариде (сахароза, лактоза, малтоза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сахариде (скроб, амилоза, амилопектин, пектин и тако даљ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ела угљених хидр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2420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осахариди су прости шећери који се не могу хидролизовати на простије шећ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лигосахариди се састоје од 2 (дисахариди) до 9 моносахарида, а полисахариди садрже већи број моносахар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ген припада полисахаридима и представља депо глукозе у мишићима и је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ик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26792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икоген припада полисахаридима и представља депо глукозе у мишићима и је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ишен унос угљених хидрата омогућава повећање залиха мишићног гликогена, до нивоа гликогенске синте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ње мишићног гликогена је највеће током првог сата после вежбања или такм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2340000" y="3789360"/>
            <a:ext cx="43718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икоген у мишић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8920" y="1413000"/>
            <a:ext cx="871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о је рани унос угљених хидрата после напорног вежбања изузетно важан, јер омогућава непосредан извор супстрата за почетак ефикасног опоравка мишићне ћелије и за боље искоришћење периода повећане синтезе гликог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Ð ÐµÐ·ÑÐ»ÑÐ°Ñ ÑÐ»Ð¸ÐºÐ° Ð·Ð° glikogen in muscle"/>
          <p:cNvPicPr/>
          <p:nvPr/>
        </p:nvPicPr>
        <p:blipFill>
          <a:blip r:embed="rId1"/>
          <a:stretch/>
        </p:blipFill>
        <p:spPr>
          <a:xfrm>
            <a:off x="1979640" y="3429000"/>
            <a:ext cx="52671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гљени хидр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125360"/>
            <a:ext cx="8712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 се да 1 g угљених хидрата ослобађа 4 kcal, а за спортисте је важна њихова подела на просте (моносахариди) и сложене (олигосахариди и полисахариди) угљене хидра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и угљени хидрати брзо подижу ниво глукозе у крви и спортиста треба да их узима када брзо жели да врати потрошену енергију, на пример, после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Ð ÐµÐ·ÑÐ»ÑÐ°Ñ ÑÐ»Ð¸ÐºÐ° Ð·Ð° ugljeni hidrati kod sportista"/>
          <p:cNvPicPr/>
          <p:nvPr/>
        </p:nvPicPr>
        <p:blipFill>
          <a:blip r:embed="rId1"/>
          <a:srcRect l="0" t="15117" r="0" b="0"/>
          <a:stretch/>
        </p:blipFill>
        <p:spPr>
          <a:xfrm>
            <a:off x="2268360" y="3500280"/>
            <a:ext cx="47786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и угљени хидр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06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о због наглог скока, а онда последично и пада глукозе у крви, просте угљене хидрате (слаткиши, разни газирани напици, чоколада, производи од рафинисаног шећера, прозводи од белог брашна и тако даље) треба избегавати пре тренинга или такмич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ихово конзумирање непосредно пре такмичења може да изазове хипогликемију, то јест пад шећера у крви и губитак неопходне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ени угљени хид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06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уге стране, сложени угљени хидрати који потичу од интегралних житарица, махунарки, коштуњавих плодова и поврћа разлажу се постепено, па се тако њихов садржај шећера лагано ослобађа у крвоток, што условљава лагано лучење инсул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а може да их узима најмање сат времена пре такмичења, како би имао довољно енергије за целу утакмицу или ме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1-21T09:10:17Z</dcterms:modified>
  <cp:revision>67</cp:revision>
  <dc:subject/>
  <dc:title>Демијелинизационе болести Мијастенија гравис</dc:title>
</cp:coreProperties>
</file>